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C98-FB77-4712-A2CE-971FC0CA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C8A-694B-4E10-9F08-BB0F1F59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58D-096D-453F-AAB5-0B57ADC7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342-5D07-449A-B773-9325FCF8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B1B-8872-43EB-B16A-C0191AAD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B8E-1B6F-467F-BCB6-5AB80A1C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896-B044-4277-AA45-93AC5B0E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4355-EE6E-4449-9C44-34B7DF89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F85-33D7-4C67-9180-B612045E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CCD-8603-4921-87D0-842B42F6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9A4-68B4-40E0-B913-6A1F385E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912-EC00-4ACF-9418-E0ACED76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288F-D258-456E-8BCE-5FCBFC31B2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468360" y="1628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900000" y="241308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68360" y="148428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b4e3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Прямая со стрелкой 6"/>
          <p:cNvCxnSpPr/>
          <p:nvPr/>
        </p:nvCxnSpPr>
        <p:spPr>
          <a:xfrm>
            <a:off x="3131640" y="5398920"/>
            <a:ext cx="10087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" name="Прямая со стрелкой 10"/>
          <p:cNvCxnSpPr/>
          <p:nvPr/>
        </p:nvCxnSpPr>
        <p:spPr>
          <a:xfrm flipV="1">
            <a:off x="3403440" y="4652280"/>
            <a:ext cx="91512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" name="Прямая со стрелкой 14"/>
          <p:cNvCxnSpPr/>
          <p:nvPr/>
        </p:nvCxnSpPr>
        <p:spPr>
          <a:xfrm flipV="1">
            <a:off x="2771280" y="465228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Прямая со стрелкой 20"/>
          <p:cNvCxnSpPr/>
          <p:nvPr/>
        </p:nvCxnSpPr>
        <p:spPr>
          <a:xfrm flipH="1">
            <a:off x="970920" y="5300640"/>
            <a:ext cx="144036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Прямая со стрелкой 24"/>
          <p:cNvCxnSpPr/>
          <p:nvPr/>
        </p:nvCxnSpPr>
        <p:spPr>
          <a:xfrm>
            <a:off x="2771280" y="5398560"/>
            <a:ext cx="10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Прямая со стрелкой 27"/>
          <p:cNvCxnSpPr/>
          <p:nvPr/>
        </p:nvCxnSpPr>
        <p:spPr>
          <a:xfrm flipH="1" flipV="1">
            <a:off x="1258560" y="4868280"/>
            <a:ext cx="101016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0" name="Picture 13" descr="https://avatars.mds.yandex.net/i?id=bbc79c40485844f8ad0d6935603d99188485fb96-12853318-images-thumbs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icture background"/>
          <p:cNvPicPr/>
          <p:nvPr/>
        </p:nvPicPr>
        <p:blipFill>
          <a:blip r:embed="rId1"/>
          <a:stretch/>
        </p:blipFill>
        <p:spPr>
          <a:xfrm>
            <a:off x="-285840" y="-1214280"/>
            <a:ext cx="1103004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icture background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0" y="182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Таблица “тонких” и “толстых” вопрос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468360" y="1628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755640" y="24130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ngsan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857240"/>
          <a:ext cx="9144000" cy="5756400"/>
        </p:xfrm>
        <a:graphic>
          <a:graphicData uri="http://schemas.openxmlformats.org/drawingml/2006/table">
            <a:tbl>
              <a:tblPr/>
              <a:tblGrid>
                <a:gridCol w="4565520"/>
                <a:gridCol w="4578480"/>
              </a:tblGrid>
              <a:tr h="91764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онкие 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олстые 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38760">
                <a:tc>
                  <a:txBody>
                    <a:bodyPr lIns="53280" rIns="532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SzPct val="3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то..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SzPct val="3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..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SzPct val="3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гда..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SzPct val="3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жет..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SzPct val="3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удет..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SzPct val="3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г ли..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SzPct val="3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к звали..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SzPct val="3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ыло ли..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SzPct val="3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гласны ли вы..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575"/>
                        </a:spcAft>
                        <a:buClr>
                          <a:srgbClr val="ffffff"/>
                        </a:buClr>
                        <a:buSzPct val="3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ерно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3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йте объяснение, почему..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3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ему вы думаете..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3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ему вы считаете..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3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чем разница..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3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оложите, что будет, если..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575"/>
                        </a:spcAft>
                        <a:buClr>
                          <a:srgbClr val="000000"/>
                        </a:buClr>
                        <a:buSzPct val="3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, есл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е слова “лишние”? Подчеркните их зеленым цвет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овите слова с безударной гласной в корне, которые можно проверить изменением формы слова. Подчеркните их красным цветом, устно назовите проверочные сло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ли слова смогли проверить изменением слов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очните тему и цель уро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иск реш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подобрать проверочное слово? Предложите свои вариан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ждое ли однокоренное слово может быть проверочны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олько однокоренных слов могут быть проверочным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тите ответить на этот вопр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Гульнара\Pictures\!!!!!5 шляп.png"/>
          <p:cNvPicPr/>
          <p:nvPr/>
        </p:nvPicPr>
        <p:blipFill>
          <a:blip r:embed="rId1"/>
          <a:stretch/>
        </p:blipFill>
        <p:spPr>
          <a:xfrm>
            <a:off x="139680" y="0"/>
            <a:ext cx="886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Picture background"/>
          <p:cNvPicPr/>
          <p:nvPr/>
        </p:nvPicPr>
        <p:blipFill>
          <a:blip r:embed="rId1"/>
          <a:stretch/>
        </p:blipFill>
        <p:spPr>
          <a:xfrm>
            <a:off x="-142920" y="0"/>
            <a:ext cx="92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s://fsd.multiurok.ru/html/2024/01/25/s_65b1fe61af333/phpevhNaM_Iz-opyta-raboty_html_241385fa4e5836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16:11:56Z</dcterms:created>
  <dc:creator>ольга</dc:creator>
  <dc:description/>
  <dc:language>en-US</dc:language>
  <cp:lastModifiedBy>User</cp:lastModifiedBy>
  <dcterms:modified xsi:type="dcterms:W3CDTF">2025-05-18T11:06:20Z</dcterms:modified>
  <cp:revision>38</cp:revision>
  <dc:subject/>
  <dc:title>Мастер-класс «Работа с текстом и информацией на уроке литературного чтения»</dc:title>
</cp:coreProperties>
</file>